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E29-03B1-43A9-9806-D36CE4E0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BF8-4B63-4B31-9347-14D7973A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4D0-DF25-4273-B618-A27E501B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BD3-11DB-4A0E-9009-71DD705F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CB5-EB62-453D-A234-9B53A8D2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777-06A8-4F29-B242-3F767FAB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243-CA8F-4484-8286-FA5E96D7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5A4-C219-4762-9D1D-1450CFD1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5A0-9692-4065-9E2A-67B61F3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53C-F406-4AFD-8A7E-CE3FC4E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B4A-CA48-459E-A8E1-90948679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948-BD14-48EF-8BD1-85730125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7820-DDE7-40CA-9724-24276A21993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1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Ul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41 employees are in Ulm under contrac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nsulting company works on alternatives for closing, result are promised for cw 2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negotiations on reconciliation of interest started for the case if decision persis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ditions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o transfer or scrapping of the EMC-chamber before 2nd of Ju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s management asks for no active transfer proposals to single employees by line manag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epartment mangers are requested to set up plans for moving and closing down up to the 28th of May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tate Ulm / Aalborg (2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bor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elopment effort after 1st of June will be refunded to Motorola, has to be planned as consulting cost in PMC, list of named engineers are part of the contrac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sset accounting unclear, transfer of equipment has to be handled by carve out team in a centralized w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nly a few SW-contracts (site related) will be transferr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ease agreement for remaining engineers as well as customer care, server room and storage area are under discuss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rver room, WAN/LAN connection for project finishing are under prepar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T application data transfer will be planned cw2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ransfer plan for each function is available, has to be more detailed in some cas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oving plans Aal internal are under prepar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ndover already start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12T15:13:57Z</dcterms:modified>
  <cp:revision>53</cp:revision>
  <dc:subject/>
  <dc:title>PowerPoint 簡報</dc:title>
</cp:coreProperties>
</file>